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CD30-14E7-4B7E-9CCD-DF910B8F8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FC29-E07A-41BB-9F7D-8390F31AB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F540-BC9D-4858-A00B-2BD615FF5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5837-4F5A-4E17-86C2-626E373DF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D0576-2EFC-42B3-8ACF-FF9BBE29C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5C5D6-62C8-4653-A12C-D2BF63190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E3F71-CCFA-41D3-9F4C-AF3A92854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40FDB-53AA-4782-979D-378F21A49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1D8C5-876E-41F6-8CEA-0CA5C8DE1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7228A-F27E-479E-82AB-0E4DDC924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07BA3-E14D-464B-93CB-AB7501ED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3167-B698-452D-AFDE-4E8C80277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CC58A-896D-4CDD-8EE4-F3C4A7BC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60F90-ACF3-4182-917C-2F3E7817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2BC54-59BF-4D90-82DA-4A347182E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872B7-9B1C-4BB3-86DE-C241F83AC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0C542-54BC-48E2-8525-19832C5C3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0893-82D5-4480-BAA3-5C7EFB51F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A5E8-1D96-479E-A1DD-A48191535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F394-5192-4BA4-9B8D-2D96EF184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D7D1-9B29-48C8-84BA-B15A868CA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BC8C-A831-4500-90DF-79BEA828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07D8-B557-4E38-AC54-F980DCD3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1BC2-C061-4C6E-8FAB-42789506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1DB09-C88C-4042-B8CF-6BDE5C9AB33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BE5AA-1C15-478C-B769-6720EF09486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nclusi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ould mirror the introduction in leng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 back to the quote, anecdote, scene, or profile that you used to begin the essay and make som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inal commentar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n the main purpose of the essay based on the information you’ve presented in the essay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nclusi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unction of Conclusion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t should do three thing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udgement, Culmination, Send-of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Judgmen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nal judgment on whatever question, issue, or problem the paper has focused up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 connection with the introduction-repeating some of the key ter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ules yes or no when considering the opening question or hypothe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plicitly revisits the introductory claim for why the topic matt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nclusi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unction of Conclusion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ulminatio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op or summit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ring things together and ascend to one final statement of your think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nd-off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final opening outward of the topic that leads the reader out of the paper with something further to think about but does not introduce a brand new topi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speculation that you have earned the right to formula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nclusi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itiq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gre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agre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comme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gge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di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ursue Implic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ason inductively to consider broader issues, such as the study’s practical consequences or applications, or future-oriented issues, such as avenues for further research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e Full Circ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nify your paper by interpreting the results of your analysis in light of the context you established in your introdu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dentify Limit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cknowledge restrictions of method or focus in your analysis, and qualify your conclusion (and its implications) accordingl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i="1" lang="en-US" sz="1000" spc="-1" strike="noStrike">
                <a:solidFill>
                  <a:srgbClr val="ffffff"/>
                </a:solidFill>
                <a:latin typeface="Tahoma"/>
              </a:rPr>
              <a:t>Writing Analytically 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David Rosenwasser and Jill Stephen 2006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14:57:57Z</dcterms:created>
  <dc:creator>klrodems</dc:creator>
  <dc:description/>
  <dc:language>en-US</dc:language>
  <cp:lastModifiedBy>Rodems, Kathy</cp:lastModifiedBy>
  <dcterms:modified xsi:type="dcterms:W3CDTF">2017-08-29T14:17:14Z</dcterms:modified>
  <cp:revision>12</cp:revision>
  <dc:subject/>
  <dc:title>Conclusions</dc:title>
</cp:coreProperties>
</file>